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728-983F-40AB-9A15-3D2EA78A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8DFB-9B1B-4814-89E6-C7F2315C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296-B28B-4D73-875E-7B58FBD3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074-E9FC-4EBE-9D40-2FCBCAD6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27F1-A60D-46EE-A660-D2C7B29D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BF61-85ED-4BB3-B79B-86A68A2D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9FCE-7583-4645-9E87-8787047F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7AE3-90C2-44F1-9CF4-BA4329B3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D3E4-241E-4C11-855B-D5FC6C83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4E6A-16A4-493F-969E-9DE76263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7504-0928-4A03-A331-AB078D1F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3F5-B96A-450B-8D5F-58176D9F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E8A9-3D40-4940-9254-76ECC2EA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1B16-47B1-4F7C-A040-6357D6D4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D2EF-34CA-4B24-BFDB-6D9910F4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41BD-A2DD-4C2A-8484-47E6FA66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E9A1-2C30-465D-8CD0-91519DE1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B347-D117-4933-8FF8-F4E022D1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796-260C-4E95-9397-DADF0BEF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952-306E-494E-9C3D-B9A4BD44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694D-E06A-4EBF-B9FD-78BE9D63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84A-69CF-4A78-B09A-D50CBBE4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DCC-3D1E-40EE-91E6-9B2751ED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D6E5-93D6-44E3-B4C0-7223CC32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99A5-BC2C-41C4-BBE6-0AB668861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760"/>
                    <a:gd name="textAreaBottom" fmla="*/ 726120 h 72576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000"/>
                    <a:gd name="textAreaBottom" fmla="*/ 684360 h 68400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194F-AE1E-427A-B7BB-0D5D5EE7F54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ll-sbor.net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История возникновения праздника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«Татьянин день»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820872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"...Установление оного университета в Москве тем способнее будет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ней живущих дворян и разночинцев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ложение оной среди Российского государства, куда из округ лежащих мест способно приехать можно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содержание всякого не стоит многого иждивения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чти всякой у себя имеет родственников или знакомых, где себя квартирою и пищею содержать может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Москве у помещиков на дорогом содержании учителей, из которых большая часть не токмо учить науке не могут, но и сами к тому никакого начала не имеют, и только чрез то младые лета учеников и лучшее время к учению пропадает, а за учение оным бесполезно великая плата дается...«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(Ломоносов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11280" y="1341360"/>
            <a:ext cx="432108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ШУВАЛОВ Иван Иванович (1727-97), российский государственный деятель, фаворит Елизаветы Петровны, генерал-адъютант (1760). Покровительствовал просвещению. 1-й куратор Московского университета, президент Академии художеств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4356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440" y="5734080"/>
            <a:ext cx="380988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Елизавета Петровн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643280" y="1341360"/>
            <a:ext cx="37436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12(25) января 1755 г. был подписан императрицей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Елизаветой Петровной Указ об открытии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в Москве 1-го российского университета</a:t>
            </a:r>
            <a:r>
              <a:rPr b="0" lang="en-US" sz="2400" spc="-1" strike="noStrike">
                <a:solidFill>
                  <a:srgbClr val="f8f8f8"/>
                </a:solidFill>
                <a:latin typeface="Times New Roman Cyr"/>
              </a:rPr>
              <a:t>.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953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i2?i=08af8fbca4"/>
          <p:cNvPicPr/>
          <p:nvPr/>
        </p:nvPicPr>
        <p:blipFill>
          <a:blip r:embed="rId1"/>
          <a:stretch/>
        </p:blipFill>
        <p:spPr>
          <a:xfrm>
            <a:off x="250920" y="981000"/>
            <a:ext cx="4224240" cy="47516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178160" y="1341360"/>
            <a:ext cx="4965840" cy="38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од университет определили трехэтажное здание, принадлежавшее Земскому Приказу на Красной площади. Дом отремонтировали и 26 апреля 1775 года приступили к занятиям.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Домовая церковь Московского Университет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1" name="Picture 7" descr="419-1"/>
          <p:cNvPicPr/>
          <p:nvPr/>
        </p:nvPicPr>
        <p:blipFill>
          <a:blip r:embed="rId1"/>
          <a:stretch/>
        </p:blipFill>
        <p:spPr>
          <a:xfrm>
            <a:off x="324000" y="1052640"/>
            <a:ext cx="42955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219640" y="2286000"/>
            <a:ext cx="323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едаль на открытие Московского университета. 1775 г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7754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971280" y="4868640"/>
            <a:ext cx="380988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Главное здание МГ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38102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Официальным университетским днем, отмечаемым молебном в университетской церкви, было 12 января. Но его называли не Татьяниным днем, а «днем основания Московского университета»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6" name="Picture 7" descr="280px-Moscow_State_University%2C_HDR"/>
          <p:cNvPicPr/>
          <p:nvPr/>
        </p:nvPicPr>
        <p:blipFill>
          <a:blip r:embed="rId1"/>
          <a:srcRect l="12148" t="0" r="8099" b="0"/>
          <a:stretch/>
        </p:blipFill>
        <p:spPr>
          <a:xfrm>
            <a:off x="826920" y="1268280"/>
            <a:ext cx="4032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066920" y="1197000"/>
            <a:ext cx="460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Указ Николая I, где он распорядился праздновать не день открытия университета, а подписание акта о его учреждении. Так волей монарха появился студенческий праздник - Татьянин день и День студента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495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076360" y="1413000"/>
            <a:ext cx="33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Татьянин день праздновался повсюду. Он объединял профессоров, студентов нынешних и “бывших” по всей России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0" name="Picture 4" descr="История возникновения праздника Татьянин день праздник студентов"/>
          <p:cNvPicPr/>
          <p:nvPr/>
        </p:nvPicPr>
        <p:blipFill>
          <a:blip r:embed="rId1"/>
          <a:stretch/>
        </p:blipFill>
        <p:spPr>
          <a:xfrm>
            <a:off x="826920" y="1557360"/>
            <a:ext cx="42814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Как отмечают свой праздник студенты в других странах?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24360" y="228600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У иностранных студентов нет особых традиций и обычаев празднования этого дня, но тем не менее: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Бельгийские студенты неравнодушны к любым студенческим праздникам. Успешное окончание сессии — хороший повод для встреч друзей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3" name="Picture 4" descr="i2?i=6647d48195"/>
          <p:cNvPicPr/>
          <p:nvPr/>
        </p:nvPicPr>
        <p:blipFill>
          <a:blip r:embed="rId1"/>
          <a:stretch/>
        </p:blipFill>
        <p:spPr>
          <a:xfrm>
            <a:off x="0" y="1817640"/>
            <a:ext cx="36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4797360"/>
            <a:ext cx="777384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Святая мученица Татиана родилась в древнем Риме от знатных родителей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8" name="Picture 7" descr="15810609_2358"/>
          <p:cNvPicPr/>
          <p:nvPr/>
        </p:nvPicPr>
        <p:blipFill>
          <a:blip r:embed="rId1"/>
          <a:stretch/>
        </p:blipFill>
        <p:spPr>
          <a:xfrm>
            <a:off x="1835280" y="620640"/>
            <a:ext cx="575928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ПРИМЕТЫ ТАТЬЯНИНОГО ДН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красно заходит за лес - к колючему ветр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поутру выглянуло, в полдень постояло над деревней - птицы по весне рано прилетят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нег на Татьянин день - быть летом частому дождичк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На Татьяну проглянет солнышко - к раннему прилету птиц"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Источники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happy-year.narod.ru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slovo.odessa.ua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50035"/>
                </a:solidFill>
                <a:uFillTx/>
                <a:latin typeface="Times New Roman"/>
                <a:hlinkClick r:id="rId1"/>
              </a:rPr>
              <a:t>www.all-sbor.net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11280" y="5157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7000"/>
          </a:bodyPr>
          <a:p>
            <a:pPr marL="160920" indent="-160920">
              <a:lnSpc>
                <a:spcPct val="80000"/>
              </a:lnSpc>
              <a:spcBef>
                <a:spcPts val="2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160920" indent="-160920">
              <a:lnSpc>
                <a:spcPct val="8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другой день неправедный судья, воссев на судилище, опять приказал привести на мучение святую Татиану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0" name="Picture 4" descr="tatiana5"/>
          <p:cNvPicPr/>
          <p:nvPr/>
        </p:nvPicPr>
        <p:blipFill>
          <a:blip r:embed="rId1"/>
          <a:stretch/>
        </p:blipFill>
        <p:spPr>
          <a:xfrm>
            <a:off x="2627280" y="476280"/>
            <a:ext cx="382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5373360"/>
            <a:ext cx="799128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утро святую Татиану привели в цирк и выпустили на нее страшного льва, чтобы он растерзал святую. Но лев  лег у ее ног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Picture 4" descr="08058131"/>
          <p:cNvPicPr/>
          <p:nvPr/>
        </p:nvPicPr>
        <p:blipFill>
          <a:blip r:embed="rId1"/>
          <a:stretch/>
        </p:blipFill>
        <p:spPr>
          <a:xfrm>
            <a:off x="1835280" y="692280"/>
            <a:ext cx="57783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779640" y="1699920"/>
            <a:ext cx="467820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Ее предали огню, но пламя стихло у ее ног. В конце концов, ее умертвили, но принудить отказаться от веры не смогл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1"/>
          <a:stretch/>
        </p:blipFill>
        <p:spPr>
          <a:xfrm>
            <a:off x="250920" y="981000"/>
            <a:ext cx="3684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180px-Saint_Tatiana"/>
          <p:cNvPicPr/>
          <p:nvPr/>
        </p:nvPicPr>
        <p:blipFill>
          <a:blip r:embed="rId1"/>
          <a:stretch/>
        </p:blipFill>
        <p:spPr>
          <a:xfrm>
            <a:off x="584280" y="1125360"/>
            <a:ext cx="3773520" cy="54723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42920" y="2286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Икона Святой Татианы — покровительница российского студенчеств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772400" cy="55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Огромный зал бурлит, как кратер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терты сословные межи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вспоминают alma-mater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едобородые мужи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Тут все равны. У всех во вз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еселье. Блещет яркость л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Gaudeamus в общем х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оют профессор и студ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оспоминаньем каждый ранен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реди чужих людей одни, -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ришельцы, снова в день Татьянин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ошлись, как там в былые дн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284720" y="112536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12 января (25 января по новому стилю) 1724 года Петром Великим была основана Российская Академия Наук в Санкт-Петербурге. А через год при Академии открылся Санкт-Петербургский Академический Университет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9" name="Picture 7" descr="9N0487"/>
          <p:cNvPicPr/>
          <p:nvPr/>
        </p:nvPicPr>
        <p:blipFill>
          <a:blip r:embed="rId1"/>
          <a:stretch/>
        </p:blipFill>
        <p:spPr>
          <a:xfrm>
            <a:off x="0" y="1125360"/>
            <a:ext cx="41148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355640" y="228600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.В. Ломоносов оказал влияние на то, что университет открылся в Москве, а не в Петербурге или каком другом городе России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369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38:04Z</dcterms:created>
  <dc:creator>User</dc:creator>
  <dc:description/>
  <dc:language>en-US</dc:language>
  <cp:lastModifiedBy>User</cp:lastModifiedBy>
  <dcterms:modified xsi:type="dcterms:W3CDTF">2012-11-15T17:37:12Z</dcterms:modified>
  <cp:revision>12</cp:revision>
  <dc:subject/>
  <dc:title>История возникновения праздника </dc:title>
</cp:coreProperties>
</file>